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AA6F-BF4D-43D6-8FD4-3FCB3BBB4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1F2B-1249-4ECB-817B-A74671638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E942-9B1D-44D4-991D-E21C39E8A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23EC-7C67-4D99-A8C1-383E03ABA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312C-A3BB-41F6-9B07-2FB5DE3D9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ED10-CFE3-45C1-B99F-D01031E03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9B1F-C06B-47F5-9167-F5E363143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97DC-5712-436A-BB16-8DA2C736F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F95D-9F1B-4623-ACAA-D7C8DB6D6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592E-F8D9-4565-98E3-AAB2F0393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338E-454E-44C6-A44F-FB478D2C2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2DF8-F69A-458F-B0F9-C71643D94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CB71-DCDC-4297-B7D3-2602D2E79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9E2B-DD84-4B81-8771-F3DAE8E0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2AF0-0EE9-475B-8C4F-2884ABA9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42EC-AEB5-4130-ADEA-F3132254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9A7-61BF-4396-A774-4F7EA992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1AA8-0310-44ED-9309-3C071536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48F8-C056-400C-93F2-2CA15BD1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1A0B-7412-476A-9AE5-4E940ADF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3BBF-56F1-4087-9F76-2102FBDD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E2E1-AF3B-448E-A6A0-79AC3E56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FC99-2FA3-46BF-AE61-D8F0C6B7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B35-C3B4-4FBE-80EC-145577B9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8F0-CAF5-4514-B78D-67DE6C85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6EF3-E462-4E13-B8D2-BCA01A8BE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edienkunstnetz.de/works/one-year-performance/video/1/" TargetMode="External"/><Relationship Id="rId2" Type="http://schemas.openxmlformats.org/officeDocument/2006/relationships/hyperlink" Target="http://www.c71123.com/daily_photo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311072-106374-34.jpg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9384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1168560" y="888840"/>
            <a:ext cx="71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ttp://www.medienkunstnetz.de/works/one-year-performance/video/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762120" y="160020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Year Project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edienkunstnetz.de/works/one-year-performance/video/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o see Johnathan Keller a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71123.com/daily_phot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279440" y="1490760"/>
            <a:ext cx="4435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434760" y="2571840"/>
            <a:ext cx="32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c71123.com/daily_phot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21:17:31Z</dcterms:created>
  <dc:creator>gte378v</dc:creator>
  <dc:description/>
  <dc:language>en-US</dc:language>
  <cp:lastModifiedBy>Ruth Dusseault</cp:lastModifiedBy>
  <dcterms:modified xsi:type="dcterms:W3CDTF">2015-08-23T13:28:11Z</dcterms:modified>
  <cp:revision>9</cp:revision>
  <dc:subject/>
  <dc:title>Slide 1</dc:title>
</cp:coreProperties>
</file>